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701C-3527-4226-8990-73853505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19C1-0A68-4CEC-B0AC-39066DFA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C6B66-FC3C-431E-B11A-E41EEA57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F06BBA-6905-4991-93D0-5AF45ACC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62DAD-2551-4641-B30E-2520AEA9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001D1-D225-497E-969A-C7CB366B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194E8-9E81-4DFA-9978-0497C5ED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087D1-FFCB-433C-87A0-EEFC9806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27077-5F44-4596-A0DD-3605772E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CFF19-11E2-41BA-AA9F-77A6BA337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244072-1EBF-4204-94E0-EB266311B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539AEE-E4C7-4FB2-8A23-92FCA17E6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8280-FF3A-4618-BE95-628ED682C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DF64C-7697-4E43-9713-2C58902A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D61532-C019-4B7F-954A-3FF67E28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68691E-CA85-48D3-BF37-9B2FC8DB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407BE2-0B84-4535-9059-2BFB81B8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3FE8E1-0C43-4177-B2B6-CE181BC4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6C074-D5B0-4633-BCB8-1F178F83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424A2A-5426-457B-ABE9-5DF32F85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01251-F93E-4A3B-8D8D-30EE5C43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70116-4CCC-410F-8D47-571BB548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59C387-EC62-4BEE-91FA-D96D28234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E3E1-E193-4529-9C27-DC8586CAE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14B442-CB72-4CA8-8210-B2A291ACB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8032F-8054-4705-9D54-2BC9F79C6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6FC34-244A-4383-9F4A-82108968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56CA3-583E-4DAB-973F-8ABD3475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18789-B51D-4886-A962-37E9E71C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0A68C-9943-413E-A920-61AD5FDC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564C0-BA1E-4B2F-A138-3444E777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71F47-7C9B-4F0F-BBCE-B8728A78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DE09B-F98F-42A8-B1E2-98FE7171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2F3C6-6936-4312-81A9-2BF3B85A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A049-F303-48CD-AFB6-85E03EC7B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53492-4ED7-4659-BCDA-B7ED080E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91054-00A0-4F8C-8EB5-88FFA3AA7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AB8B3-16A7-48E5-9DFD-51CD8007B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4275B9-C0F7-44D8-8DD2-C6168249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0D13E5-2C89-4DD6-869B-C9DA918C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434B9C-F735-4F1C-B08E-6829DD71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A9FCD-F790-417C-AF0C-90841C65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C88180-928E-46D5-836F-79DE8023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211708-0AB9-4E5B-8374-CC4374F8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6E32D1-20DA-4C78-B77B-C8758A74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116B-DF87-4B78-A889-E637627B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23DFC0-3DE2-429D-B0E3-E0249C1E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4BD6F4-E3C1-4040-9D5E-AB366532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C64E74-35B8-45F4-AD9A-31057A34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B922BA-5582-42DB-B3B1-E932C7A79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772AD4-DFC8-4F8A-91B4-199EA6B46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345DD4-CFA3-41CC-A73C-D0F38130E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BB2876-A9E5-4958-8D7A-18516269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522950-63EC-481D-9CFE-266CCFFB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E35446-4DCF-47C5-8CC4-9BE5999C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20043F-DF75-499F-8292-54FE4E56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CA42-2DBD-4FCA-9107-30EA3D04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52FB18-8243-4A8D-B3B7-A786D5EC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4C93A2-06F0-462E-94ED-A766C3AE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4932FA-0476-4F3D-91C8-51E8275F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8FCF99-3CB3-4417-8103-3B843012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1C3C79-9F33-4B58-AAAE-8682422A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1A69F9-6900-484D-92B9-0D23D0469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D341DB-D41E-4E74-B08E-82817123A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CD5AD5-C99F-4FE4-A137-B53F5EA93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7B261E-2B95-45C0-B3CB-EAF3537D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CBBF68-8266-4527-90E1-7AF45527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43C3-90F2-4ECA-8C7D-EC49A155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7C44C4-6A9A-473B-A1D6-64F3665D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1A6F1C-7A34-4723-8DF0-EDEE8471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3DF32F-FD43-4C7A-8EB0-3A45EA88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D2025D-812F-442D-BA2A-5357810B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5DE043-EDEF-464D-9ECD-F62B93FC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5306F5-6057-4EF4-8E8A-0583803C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DAD16F-EC53-4101-99B0-12E44545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8B2D24-9F5A-4122-85AA-E43D07632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50820B-572B-4A2B-A395-924BBA9EC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D63CB7-8566-4610-A46E-658ECE04B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FEDA-6721-4F5A-B63F-0CC4B2D0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809C94-AB0E-4F2C-AC20-91D4B303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47DFD7-B9D3-45A4-B514-3708D887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4AE37D-467F-43A0-B38D-8CB6A448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67AA35-19B6-4394-AE27-17F2ED0F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F4E759-BD81-4C64-96D4-8335843F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599171-63BA-4065-895A-92AEA6F1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B24A79-E8E1-41E3-8BEC-3299C9F9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517209-F67A-418F-9E75-10FC9767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02833D-216D-4123-B5C2-5E119B38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851ECD-DFA7-4E62-BCBB-C92EBB002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1649-6246-4C52-926B-821B9285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4E3C99-79D1-4DC9-92D9-E0F433D4A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E166AF-9D8C-44A1-9B2B-2C2E1313C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325AE7-E91A-4A7B-94EA-8F70862A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E64E18-43D9-4994-A9F3-B9C9EB49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1058E9-152D-463A-B93E-ECB8E9C5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491043-46DA-4DC1-B8AD-36C4A76E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885F87-0D52-4638-BCB5-52F5C77D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9DA41C-43A0-444C-83F9-47659819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F32AF1-C2F5-4ADA-AB98-8C7F2A5B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EFAF45-C030-4F5F-9E56-FDBDC8BA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24FA-D763-46E3-85AC-FA9F1454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45050D-E9EB-4458-A63E-1CFEB180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E3CD29-9100-4894-A7E6-95DB18298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00A4BB-91BD-4476-B16F-0A7513FFB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8D309B-4A99-4EA9-A642-B60717EF1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69C400-4CC1-43B9-A954-E5BEE55E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AFB649-7338-4D14-A2B3-B2745794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5B04B0-6460-42DB-AE41-818DE45F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B236B2-BDB5-4F82-B806-2802DE4A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E17A58-0ECA-4C25-9D30-853FB9F3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B3F5F1-CDE1-4C3E-B18B-076F5FE7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AA04-1964-4D43-BE98-C1C22C97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DAF7-5AD3-4427-BEE2-4E172F78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3466B4-CB09-4111-8493-62997D9C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1E1E68-9306-43F7-A43F-8C3AD3CD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D9548A-0D0B-4E24-80B9-AEE751B9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FEC094-F5A0-4A92-BDE2-B727099B4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B4383C-0C81-470D-9F17-8A4979D65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D8EB0C-A1FC-4F79-BA5B-E57C2E37E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A7B453-1524-4E81-9E02-10BF754E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94AF94-8A14-4825-B1E6-211813F2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F6E92F-AD15-4C5F-9606-E577C39D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C1D1F9-E7C3-4E7F-9432-300B5559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8BC8-E782-48B0-B904-2FE0BB12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6858F0-C329-47E6-ABA4-2A0D9AB8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946E4C-A6CC-4FA7-8AFB-3C6065C4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5461EE-D710-4CB6-BDB3-2DCEC30F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9FEE7B-2424-4999-A2FD-00D87214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0E7E84-CAF3-4041-A637-6DCEBD46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963AFC-C20D-4DDF-A1E8-43B401BFE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58F847-5473-4BC4-865E-218B773D8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306826-52C6-47F6-9AEE-9B3770ED0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22BA07-9537-4318-8713-1A0BEC5F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CA1F7C-0854-49AF-856D-E3A93B67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B857-0E85-46F3-BF9F-AA979F64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11C24C-89D2-4B55-BCD1-B585FF02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FB2A3B-0F0E-4953-82FE-1331CE43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57ECE4-395A-4DD7-B275-6C74E2B7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32524E-3FAF-43E5-8A06-7A441995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D87E61-3D1C-4586-B44F-3829B11D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0DFE99-AF19-4C36-9B5A-1154619F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A51FA5-5270-4801-B2E6-C5C6462D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BDBA63-E28D-46FA-8165-AA0808F19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59BC5D-61C0-4510-B5C2-5A7701826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32AA4F-67E9-4D0B-BF0A-0CE56C75A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3FC2-D2FD-4ACF-B216-40692E7C6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1689B0-BC8D-4165-A7BE-BA8CE975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8C2926-B95A-4D9E-8BD8-A32FC09E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493902-2B13-4E87-BA51-0594A64A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9AE15B-A15B-43A7-82AB-8687178B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0490BA-5470-4184-9E29-EC5EA3E4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DC8FB7-3FDB-4579-9FBF-58DEDBCA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18838A-BC76-4D2D-96F1-01B95F28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F7A0FA-F6CE-481C-808F-E6596D8F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5B77A2-239F-4B51-9193-BC41BE5C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54BDAA-30C4-4608-8F16-2D16C4C9A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C4F6-89BA-415B-ADAA-A9B28E773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CB591F-CA6C-4936-AA33-B41620ED8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DA0F1C-9E23-4025-BC8B-6AA10A96F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56D786-4BAC-416D-B4B0-E79B3272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C47AD4-6BCB-43CE-9A54-420F8B31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CE7F0E-1CE0-4BF5-9155-581D4B42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610A7D-88BE-4E19-A87F-B434EC1C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62FE37-D377-4BD3-9D03-9BD6D82F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66FA43-975B-4F99-8FD2-EBF70A97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96BE53-F304-4BA4-A476-E66875C7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30C20F-429D-439D-A883-AB76B7AF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D2136-30F4-44A6-BDCC-AFC019992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41E116-9FDD-42D2-B623-A078CE07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9023C1-20A4-408E-9107-36F295587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B9221A-E509-47A3-8EAE-4EC4562D4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30626B-1F8E-496E-93A4-5316BA9B3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5768A5-30E3-4A96-B498-A27BCDE9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11C7E1-39ED-497F-9E88-DB5B247F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FD1B45-272C-4401-80EE-392FE3A6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7DB352-B207-4724-8C6F-3AE065F7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134DAE-3382-42AF-98CB-37A7E260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9438B8-82E2-4F8A-9617-D0C02759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C394B-2841-42F9-84AD-75306F5E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201603-93B6-480F-B9A1-35D80642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9E802B-FD85-4770-A56D-1C44B8C1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314F22-D9BB-4EBB-B765-6744803A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8FE05D-6107-41E4-84E2-3324B9D3F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12D67C-BFF4-44AE-9978-81F6C22E6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750969-D94C-4468-8275-B90157F0E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5F30B4-A042-447E-81A8-E5C91DC8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30E2DB-2709-4457-8D3A-03F3775D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30C4EA-5CA6-47B0-9FB4-4F61FA1F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8C139D-04E4-47D7-8952-1B684484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98622-7000-437C-BAB5-DA5D3F6B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C1B74D-A545-4F80-B259-6C8E8975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4F93AF-3F87-4734-B28F-49968E16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7A2002-5997-4A2A-806D-E3160E65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CA52C1-254F-49EC-B804-5DE15F9D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048DE7-8804-423A-BC86-F1A5966B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E9D8F8-9823-409D-B512-AC2E24A60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CC5839-0E08-48E7-AC50-C4C93B8F8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4DC39-BED0-4487-88E8-E3801BCF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87A72-FB18-4DF7-94DD-40378012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A8C3-7DC3-4FD3-B096-66D6700C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14836-6015-41B2-A584-DCEF838B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84D5C-4CFF-4030-AF92-CB1C0471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AFDBC-EFD4-4791-878A-30A49F29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2B8BC-43B3-4E00-82D2-4A566F75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04C52-EF97-49D3-AA23-7E168BEA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9B8A9-FEF5-4A50-B1F5-97611BD3F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49551-7AB1-4CB6-A2F9-3CBB4C502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CDCE5-D017-4FF8-941B-F78C5EDDE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9E755-8133-4036-986F-BA251203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0605C-7E5E-449A-98A8-30177D1D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DCAC-2612-462A-80C7-F0EB8AEE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689C9-1024-4865-B587-23794C71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D02BF-7357-4F80-949C-3BBAEF03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D00C3-1025-437D-AC66-34A35630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F2937-1A4D-4F64-BDB8-60819CE9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5E15A-B9B6-4FF0-949F-CD14B230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F647A-B6AE-4CF3-B76C-32D2E9D6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2ECC7-74F1-40C2-BD2B-BEB2D2F8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B7B49-4C32-43E2-966B-AC71F9B7D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817C8-878D-4250-95E1-2CAFA6D0A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5D608-63EE-4797-B401-F1E75F9B7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D9F7-A72E-4747-A3F6-A9934219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556AE-DA48-45D0-835E-D12DBCF8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E5A62-32EE-45A9-A17B-F15E7C49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30530-E5C8-4272-A103-2F56339A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BCD9D-68A4-4B21-8EE6-139C5AB3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52FB2-3A61-40F7-8C2E-1D6070D3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93271-93D9-429E-B7CD-9F79087C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ABE1F-20C7-4A96-8238-17E89380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8BA4C-C92D-4A78-AFDC-9AD4D3D9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3C78A-3680-4AC4-97D7-58771ADB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2F7AF-12F7-4827-A1CF-BC8267172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1933-38D0-436D-A360-4A214402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2F329-0B50-4986-92E5-C9C33ED19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E175A-221B-41D1-BF26-10050EBBB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C75B5-DE2F-4E2D-A1FC-A0BFB756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12CF8-49B9-4D35-B713-EF269E75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3B424-1262-4324-AA7C-36CAEEB9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AC33F-F5E7-4309-9398-3BE4B9A7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FEAD3-4325-4688-8E2C-291D05CE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84034-E788-4E48-A8D1-01747E36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89805-30CF-4A76-B4CD-C2EE682E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AA4EF-A0FB-4D47-904B-9811A04C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CD7E-2A1B-4B7E-A368-5EDCFA75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47F24-48FF-4FFA-B8DF-AFD31C62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BCDCB-6B79-44FF-AB74-54C4F626E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0670C-9FBE-4F84-AC83-FEDC81100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002BA-50AA-4B35-94AC-D9081EBC7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D340A-2F18-4C63-841B-9A46B533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E4E6F-CD7F-4272-BC1E-B54D8377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67A31-0FDF-400F-8840-5DCFA487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A5B2F-9EA5-4F6A-93F5-327528F3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51F50-7E00-4739-8224-1EC953A7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B6A74-4F59-4828-9423-B4AB0E9B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83C0-1E9B-49F4-ADF7-BC749A47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AFD3E-0978-46B1-B795-68D0F720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604BF-2854-4012-8B16-C3231E91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3BE6F-D67D-4C67-9EFE-6807972D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2CD38-A3C5-4452-8F20-69BDE9767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26882-031E-4637-B68A-72D02F18D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B784C-4ECD-4671-92F1-4EA9D2D2D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A1098-EBC0-4690-AD26-30EBFF50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2D415-F614-4C4F-87F7-197559B5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9C3EF-7406-48A7-8034-CF3232EB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50091-59B8-4BD4-AE2D-C76D84B1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6F54-7857-4B1A-9741-80C48852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C4225-8D88-406D-A190-9D26DC87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FDFFD-3821-45B2-8CA7-9D7E1578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C2CED-31A7-4ABB-8A66-CE2F1AA3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0B7BC-8BEB-4755-A704-18009297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D9847-C397-4854-987E-207E3CE6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BE5E2-945D-4F7F-B35D-5C782273C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E9171-29C0-4CB0-B52E-953149DF7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013D7-DE08-4AF8-915C-51291696B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042D2-BE36-49F6-91F9-0454FF54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8BE293-7B6B-4815-AD05-9347A372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88B3-7DC6-42BC-9544-2C38718508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C390-6F63-4951-B237-F570D903D8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EAFC-95FE-4D6C-8A8C-FA88D8BAEF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3395-867F-491B-946B-12A8FF3D4F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1820-5E54-4CD2-8964-9A76CAF97A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DC7D-EEA5-49EA-B722-29CEBBEB46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E4CD-398B-4F12-8B2F-70E2DCDEA8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3900-73B6-44FD-84EA-55209D212C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12B3-1968-44CC-B3A7-E90D1AB374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35A3-0BAC-439E-8627-5CB9E243E8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54AB-C7D0-464C-BF77-08050428A6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5A0B-C572-42A9-85EF-358D50C9E5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2FEE-6926-4D1D-BA2C-9ABF629525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9467-2E17-4DC2-8176-ED7984BB5B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215A-DD6C-4CF7-A12B-2EBF2D4946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B387-CA7F-48C4-9EE0-E19DE96947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2090-8697-4966-B816-4E39C26C09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FB10-8338-4098-87A9-8D2B286DB5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7D6F-4C6A-4BB9-BD0F-D98A6E68B3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F32F-9AF9-47CD-9B33-4E367B4FA6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2B4A-F4F6-4BF9-9567-0FF1DCCE67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BAE7-58E3-4AE5-89A5-C1593F0108F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C588-45F3-4616-8602-E2AC740199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59EB-0681-4F9F-80C2-7192CC4DF2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5FB2-4516-4FE2-B3B4-3F122B1C6A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0F67-3913-454B-9C7F-1444DA21D9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B97A-0BD8-4110-8928-7777CE62CC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7DB0-7012-4DA0-9B80-8345F12EB1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3C16-A3F1-4EFB-A928-1B9E75D4CA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B043-F70B-4372-AD97-0426A2977D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7AD3-7BDD-48AC-8EB5-A920F633D4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9735-AC57-4DA7-9C71-0F58DCCF93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9EC7-ADE2-40A3-A65E-7B799D51A6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848B-5FF1-4368-B9E2-07A042F8A5A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59FE-E4F8-4362-B329-AD04010291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5EA0-9A39-45A0-A743-393C160D2E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D24A-90DC-4096-A88E-E7437F062B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2C1F-448B-4216-B9D2-2AF98F3437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7883-BF94-4F64-8AAC-FC3C7D0E6D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5FC7-0B3F-4311-AE81-3053E1685F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0F14-47F0-423E-A992-886661B07F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DD9E-30A4-46FF-BB2E-35E97B82B6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814320" y="3090960"/>
            <a:ext cx="75153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147600" y="1009800"/>
            <a:ext cx="8847000" cy="483840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358560" cy="29052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3"/>
          <a:stretch/>
        </p:blipFill>
        <p:spPr>
          <a:xfrm>
            <a:off x="468360" y="1989000"/>
            <a:ext cx="358560" cy="29052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4"/>
          <a:stretch/>
        </p:blipFill>
        <p:spPr>
          <a:xfrm>
            <a:off x="395280" y="2997360"/>
            <a:ext cx="358920" cy="2905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5"/>
          <a:stretch/>
        </p:blipFill>
        <p:spPr>
          <a:xfrm>
            <a:off x="468360" y="3933720"/>
            <a:ext cx="358560" cy="29052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6"/>
          <a:stretch/>
        </p:blipFill>
        <p:spPr>
          <a:xfrm>
            <a:off x="395280" y="5229360"/>
            <a:ext cx="35892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图片 1" descr=""/>
          <p:cNvPicPr/>
          <p:nvPr/>
        </p:nvPicPr>
        <p:blipFill>
          <a:blip r:embed="rId1"/>
          <a:stretch/>
        </p:blipFill>
        <p:spPr>
          <a:xfrm>
            <a:off x="81000" y="1976400"/>
            <a:ext cx="8980560" cy="290520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2"/>
          <a:stretch/>
        </p:blipFill>
        <p:spPr>
          <a:xfrm>
            <a:off x="1476360" y="2311560"/>
            <a:ext cx="1008000" cy="29052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3"/>
          <a:stretch/>
        </p:blipFill>
        <p:spPr>
          <a:xfrm>
            <a:off x="1835280" y="2968560"/>
            <a:ext cx="1008000" cy="29052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4"/>
          <a:stretch/>
        </p:blipFill>
        <p:spPr>
          <a:xfrm>
            <a:off x="611280" y="3284640"/>
            <a:ext cx="1008000" cy="29052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5"/>
          <a:stretch/>
        </p:blipFill>
        <p:spPr>
          <a:xfrm>
            <a:off x="1116000" y="3933720"/>
            <a:ext cx="1008000" cy="2905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6"/>
          <a:stretch/>
        </p:blipFill>
        <p:spPr>
          <a:xfrm>
            <a:off x="1476360" y="4264200"/>
            <a:ext cx="2087640" cy="29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9" name="图片 1" descr=""/>
          <p:cNvPicPr/>
          <p:nvPr/>
        </p:nvPicPr>
        <p:blipFill>
          <a:blip r:embed="rId1"/>
          <a:stretch/>
        </p:blipFill>
        <p:spPr>
          <a:xfrm>
            <a:off x="81000" y="1414440"/>
            <a:ext cx="8980560" cy="402912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2"/>
          <a:stretch/>
        </p:blipFill>
        <p:spPr>
          <a:xfrm>
            <a:off x="1258920" y="2036880"/>
            <a:ext cx="2233440" cy="29052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3"/>
          <a:stretch/>
        </p:blipFill>
        <p:spPr>
          <a:xfrm>
            <a:off x="1116000" y="2689200"/>
            <a:ext cx="934920" cy="29052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4"/>
          <a:stretch/>
        </p:blipFill>
        <p:spPr>
          <a:xfrm>
            <a:off x="4211640" y="2684520"/>
            <a:ext cx="1368360" cy="29052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5"/>
          <a:stretch/>
        </p:blipFill>
        <p:spPr>
          <a:xfrm>
            <a:off x="755640" y="3322800"/>
            <a:ext cx="720720" cy="29052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6"/>
          <a:stretch/>
        </p:blipFill>
        <p:spPr>
          <a:xfrm>
            <a:off x="4716360" y="3338640"/>
            <a:ext cx="1079640" cy="29052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7"/>
          <a:stretch/>
        </p:blipFill>
        <p:spPr>
          <a:xfrm>
            <a:off x="539640" y="4311720"/>
            <a:ext cx="1079640" cy="29052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8"/>
          <a:stretch/>
        </p:blipFill>
        <p:spPr>
          <a:xfrm>
            <a:off x="2556000" y="4308480"/>
            <a:ext cx="647640" cy="2905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9"/>
          <a:stretch/>
        </p:blipFill>
        <p:spPr>
          <a:xfrm>
            <a:off x="1476360" y="4960800"/>
            <a:ext cx="647640" cy="29052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10"/>
          <a:stretch/>
        </p:blipFill>
        <p:spPr>
          <a:xfrm>
            <a:off x="2771640" y="4960800"/>
            <a:ext cx="648000" cy="29052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11"/>
          <a:stretch/>
        </p:blipFill>
        <p:spPr>
          <a:xfrm>
            <a:off x="5599080" y="4960800"/>
            <a:ext cx="64764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44:07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